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EDC-F98D-4078-AE83-8BC00A07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649-7213-4E38-943D-CAE84CD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499-3581-444B-9846-A7CF1DAB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94C-2C68-467E-B936-58E17849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FEF-A70D-4B85-A304-A426684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F7F-8E2C-4692-ABEF-2CEE6FB9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709-01E9-48CE-B9FE-BB19DA5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4F0-9C29-45A1-81A4-57140623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D40-FD5D-41CC-978F-16CB32CC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992-6B0F-4CB1-9957-8F53280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8E3-4EF0-4EE5-8558-BCEF55A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4B0-23FA-4462-96C4-305029F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C91-52A0-4B7B-9221-D8AD91FC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9000"/>
            <a:ext cx="8569080" cy="648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692280"/>
            <a:ext cx="60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DERJINE - CMSF - Campaign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168720" cy="272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050920" y="4508640"/>
            <a:ext cx="485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Battalion USM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6093000"/>
            <a:ext cx="7200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igner : Gregory KELLER  - snake.eye@club-internet.fr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84360" y="1916280"/>
            <a:ext cx="3762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>
                    <a:alpha val="54000"/>
                  </a:srgbClr>
                </a:solidFill>
                <a:latin typeface="Arial Black"/>
              </a:rPr>
              <a:t>Battles Flow Chart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>
                  <a:alpha val="54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56360" y="3284640"/>
            <a:ext cx="230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sion 1.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08/27/200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93080" y="2781360"/>
            <a:ext cx="12952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981000"/>
            <a:ext cx="12952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80000" y="1125360"/>
            <a:ext cx="48564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ttle 1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773360"/>
            <a:ext cx="1295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773360"/>
            <a:ext cx="129564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7640" y="1916280"/>
            <a:ext cx="48600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ttle 2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1773360"/>
            <a:ext cx="12952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92360" y="1916280"/>
            <a:ext cx="48564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Battle 3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51640" y="2924280"/>
            <a:ext cx="4860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ttle 4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781360"/>
            <a:ext cx="12952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endCxn id="52" idx="0"/>
          </p:cNvCxnSpPr>
          <p:nvPr/>
        </p:nvCxnSpPr>
        <p:spPr>
          <a:xfrm>
            <a:off x="4716000" y="1196640"/>
            <a:ext cx="1799640" cy="57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9" idx="1"/>
            <a:endCxn id="54" idx="0"/>
          </p:cNvCxnSpPr>
          <p:nvPr/>
        </p:nvCxnSpPr>
        <p:spPr>
          <a:xfrm flipV="1" rot="10800000">
            <a:off x="1979640" y="1195920"/>
            <a:ext cx="1440360" cy="57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>
            <a:off x="7164000" y="1988640"/>
            <a:ext cx="57852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 txBox="1"/>
          <p:nvPr/>
        </p:nvSpPr>
        <p:spPr>
          <a:xfrm>
            <a:off x="324000" y="2852640"/>
            <a:ext cx="1152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nd of campaig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cxnSp>
        <p:nvCxnSpPr>
          <p:cNvPr id="62" name=""/>
          <p:cNvCxnSpPr/>
          <p:nvPr/>
        </p:nvCxnSpPr>
        <p:spPr>
          <a:xfrm flipV="1" rot="10800000">
            <a:off x="899280" y="1987920"/>
            <a:ext cx="43416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3"/>
            <a:endCxn id="52" idx="1"/>
          </p:cNvCxnSpPr>
          <p:nvPr/>
        </p:nvCxnSpPr>
        <p:spPr>
          <a:xfrm>
            <a:off x="2627280" y="1988640"/>
            <a:ext cx="324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093080" y="3860640"/>
            <a:ext cx="12952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2781360"/>
            <a:ext cx="12952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451640" y="4005360"/>
            <a:ext cx="4860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Battle 5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92720" y="2924280"/>
            <a:ext cx="48564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Battle 6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cxnSp>
        <p:nvCxnSpPr>
          <p:cNvPr id="68" name=""/>
          <p:cNvCxnSpPr>
            <a:stCxn id="65" idx="1"/>
            <a:endCxn id="69" idx="0"/>
          </p:cNvCxnSpPr>
          <p:nvPr/>
        </p:nvCxnSpPr>
        <p:spPr>
          <a:xfrm flipV="1" rot="10800000">
            <a:off x="4355280" y="2997000"/>
            <a:ext cx="504000" cy="86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708360" y="3860640"/>
            <a:ext cx="129528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80000" y="3933720"/>
            <a:ext cx="1152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nd of campaig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cxnSp>
        <p:nvCxnSpPr>
          <p:cNvPr id="71" name=""/>
          <p:cNvCxnSpPr>
            <a:stCxn id="65" idx="3"/>
          </p:cNvCxnSpPr>
          <p:nvPr/>
        </p:nvCxnSpPr>
        <p:spPr>
          <a:xfrm flipV="1">
            <a:off x="6154200" y="2204280"/>
            <a:ext cx="28944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48" idx="1"/>
          </p:cNvCxnSpPr>
          <p:nvPr/>
        </p:nvCxnSpPr>
        <p:spPr>
          <a:xfrm rot="10800000">
            <a:off x="6732000" y="2204280"/>
            <a:ext cx="361080" cy="79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48" idx="2"/>
            <a:endCxn id="64" idx="0"/>
          </p:cNvCxnSpPr>
          <p:nvPr/>
        </p:nvCxnSpPr>
        <p:spPr>
          <a:xfrm>
            <a:off x="7740360" y="321264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93080" y="5013360"/>
            <a:ext cx="1295280" cy="43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64360" y="5084640"/>
            <a:ext cx="1152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End of campaig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cxnSp>
        <p:nvCxnSpPr>
          <p:cNvPr id="76" name=""/>
          <p:cNvCxnSpPr/>
          <p:nvPr/>
        </p:nvCxnSpPr>
        <p:spPr>
          <a:xfrm>
            <a:off x="7740360" y="429228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219640" y="1052640"/>
            <a:ext cx="216000" cy="215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8720" y="184464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105264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84464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994600">
            <a:off x="5866920" y="220464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184464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285264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285264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3284640"/>
            <a:ext cx="215640" cy="215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365720"/>
            <a:ext cx="215640" cy="215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285264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4720" y="5084640"/>
            <a:ext cx="287280" cy="28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724280"/>
            <a:ext cx="216000" cy="216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5084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55640" y="5950080"/>
            <a:ext cx="756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DERJINE Campaign Battles Flow Char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3" name=""/>
          <p:cNvCxnSpPr>
            <a:stCxn id="64" idx="1"/>
          </p:cNvCxnSpPr>
          <p:nvPr/>
        </p:nvCxnSpPr>
        <p:spPr>
          <a:xfrm flipH="1" rot="10800000">
            <a:off x="7092720" y="3283920"/>
            <a:ext cx="72000" cy="792720"/>
          </a:xfrm>
          <a:prstGeom prst="bentConnector4">
            <a:avLst>
              <a:gd name="adj1" fmla="val -319597"/>
              <a:gd name="adj2" fmla="val 635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659640" y="3933720"/>
            <a:ext cx="287280" cy="287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52" idx="1"/>
            <a:endCxn id="52" idx="1"/>
          </p:cNvCxnSpPr>
          <p:nvPr/>
        </p:nvCxnSpPr>
        <p:spPr>
          <a:xfrm>
            <a:off x="5866920" y="198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6011640" y="227628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8:26:57Z</dcterms:created>
  <dc:creator>Greg</dc:creator>
  <dc:description/>
  <dc:language>en-US</dc:language>
  <cp:lastModifiedBy>Greg</cp:lastModifiedBy>
  <dcterms:modified xsi:type="dcterms:W3CDTF">2009-08-27T13:51:34Z</dcterms:modified>
  <cp:revision>9</cp:revision>
  <dc:subject/>
  <dc:title>RECON IN FORCE</dc:title>
</cp:coreProperties>
</file>